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4A7-3D23-4BC2-A1AB-4D59B77F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182-0C3A-4C85-B695-28DAA0E3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49D-38DC-4CCC-BAC0-6ED431B5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ADD-6996-4D0B-BD11-FE9F1224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0C5-E86D-4ADC-9D68-D469D640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9C5-5CFF-4B22-A7B3-BBFB2CE0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067-1F48-49DC-A93C-A3AA1091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72B-5410-4C96-BCF3-4A35FE4B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BD9-92C6-4DC3-8FF3-05434816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CC4-61BF-4128-B6B7-41CB0D98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AA1-08EE-458D-95B6-EC48556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C2F-53D1-42A8-B542-6010E03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2F00-278D-4505-8EBC-0DA830D8A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rammaire 1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s Sujets et les verb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ubjects and 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bjects and Verbs i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ric walks slow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 dog eats a l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ura is 13 years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is the subject of each sent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is the verb of each sent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part of speech are subject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rench is the same wa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Xavier écrit un poèm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’oiseau chante une belle chanso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ise lève sa ma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uje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Verb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he structure is the same! Don’t be afraid that it’s in French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ouns Are Replaced By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Kevin is a friend. ______ is 1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at goes in the blan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y do we do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Kelly and Monica are going to the movies. ______ are excited to see the new mov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at goes in this blan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bject Pronouns i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e/Sh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pronoms sujets en franç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u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becom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’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fore a vowel s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J’ai quinze 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ppel! Reminder! Formal/Inform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are speaking to people wh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older than you that you don’t kn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you will want to us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U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speaking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re than one pers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gardless of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nd of like Y’all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are speaking to a pers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own 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n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betwe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 members, even those older than yo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6:43:48Z</dcterms:created>
  <dc:creator>Robbie</dc:creator>
  <dc:description/>
  <dc:language>en-US</dc:language>
  <cp:lastModifiedBy>Robert Stevens</cp:lastModifiedBy>
  <dcterms:modified xsi:type="dcterms:W3CDTF">2012-08-23T12:51:25Z</dcterms:modified>
  <cp:revision>2</cp:revision>
  <dc:subject/>
  <dc:title>Grammaire 1-1</dc:title>
</cp:coreProperties>
</file>